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DCF-C950-4911-AFE6-BECAF997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C2B-05D7-4FBD-9345-701174B9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E8C6C-36F9-47CC-A483-EA8BA139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81FC-CC81-4A68-80BE-24D2844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3C988-F056-4A39-BFDC-98C9C978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A435C-44DD-4A0C-842D-68340C7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A7FC-EECD-40EF-9AD0-CABB611D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7B6E0-F33E-4497-94E5-07BFD66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74458-2136-4AD8-9EDC-30A6ABB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FAC7C-CC56-454F-BBDF-592A0232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099BE-F869-48A4-A781-CC8CD632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E8B95-27D1-4411-9605-EDB64D2D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0E2-B7B3-464A-8C6C-121F482B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79243-1F55-4797-B4DC-3703707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0D6E4-B2DE-4B31-8055-74170AC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404E5-C9FA-49F0-8F2D-AE28CB51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07F45-BBFF-4CA0-A900-7B94F8F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80103-C276-426D-88CF-F954CFF9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F7F24-5247-4932-B873-F0AE40D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61EBF-81B0-4F71-8FA8-67227FD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5F34D-E6EE-471F-972F-E1B5098A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F7B5-EDA3-468E-A9A2-D92AE50E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12334-9B46-4C26-84B0-FDC50495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A6A-4457-440F-9833-F0E63703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C528-6109-4D41-BB6D-49E3B876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9C5E-F282-43EF-B7F1-FD0C3D27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355CE-A97D-4428-BDB2-E182CC0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728AE-2F34-4795-AFEF-9189190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8A2E4-2D26-43CB-A0E7-A82EBD7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55A8F-B880-4FE5-9289-B2AF7A6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3521-7A2A-4D18-90E1-D832B803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880EC-EA11-4D67-8B16-51C6272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6DC4-1991-45E4-BCCD-08681AF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68D3-787E-45CE-9EC4-B249AA6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898-56AC-4942-B562-DA1822A4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A8592-A121-4969-A6CF-BAEFED7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E04C5-AC2C-477D-B51A-A3DC28A7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91A6-A883-4140-949E-4A7D916D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4B72A-7C42-4A98-A1BA-6260AC43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7A573-79C2-4BA5-B7BE-685A6DEA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97926-60F0-4B1B-A9FF-57B2EE16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F80AB-6400-4F77-8F9D-506477AD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6EB81-78C7-461F-8DF3-87082035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3DF7D-2861-406C-9699-4CD133E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2B819-D8D9-4E91-A0A5-1F2481C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10C2-8691-4BD2-89BF-A6BE5B4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5F3E0-AE29-4DAC-B5D4-64190AF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4146D-B91A-4592-993B-F14DF5A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D9A8A-689A-4025-9481-CEDA9D4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3C8C6-3DC9-4440-90C7-BF7650A3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34E6-62B3-4D53-8978-BEB08B8F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27550-1D67-41FE-902E-DBF7BBAA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D2CF9-CCFA-49CE-90AE-9ACB5ED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730B2-3FB8-4B1B-B09C-05894FB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7D5F1-FC5D-4F83-8808-4C6469D3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35287-0D96-4124-9C64-4D3F93C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3A0A-44D9-46C5-9735-7B45B5C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65B87-B0E0-4811-882B-2F7AD11A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0EDC4-8767-4E96-BED7-F335BD9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1E8D6-158E-4CC3-BFF8-55875DB0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B3681-B178-495C-A241-67CBAC2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16B65-3DCE-4337-9FAB-0D3A29BD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D4507-FD26-49B8-8085-70375ECE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BA67F-523F-4496-B9B7-7D5C9927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47BD5-1910-4536-9233-B33C8E9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0F2FD-E77F-4F8E-8106-584D069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D960F-2299-4BAE-9F7F-C49898B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FDD6-F846-4052-862D-FF22DCA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44B6D-BC24-44EE-B463-ABD3097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D6540-44C5-4DE9-8647-CE6D6B92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71B2D-53B8-48E4-B351-E8065A3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82387-5CA5-4F01-B3AE-31C98EB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EB62B-17F9-4B61-82D6-92BC7AC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1AD5D-2E6F-4FF6-BC1A-071BA3B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2AE37-0DE6-4CC0-AB40-B035DE2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177D7-0107-4B0B-94B0-FF49029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ACCC4-C325-4A15-8FE9-C0DD4CE9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45F0D-82B3-4487-B502-1310C1D1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F3F-CA1F-49BA-BC57-75C4A092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0D3DE-C0CA-438F-916D-F26E05DB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93C9F-DC6E-43B5-BEEA-6364E384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70ECB-70C7-4062-9848-C62BBB5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23A3A-429E-4AF6-A074-5F670F6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84880-D798-41C9-BE7E-4E3A10D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B5745-2085-4B94-B0C3-FED04DC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C1246-DA58-4600-A7E6-7390894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CCB7F-677B-47B7-A9DF-B291058D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B24AB-0A3F-47CB-8028-B6129DCE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5A532-AC0E-4351-AC12-7F474C1C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EFDA-701A-4D96-8286-FA3966B1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D4ECE-99A7-4148-9053-BE3EF0ED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8CD1E-9B49-4446-8EF6-50200439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5254E-4261-426C-B11E-974AF96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C46C0-A350-434F-AA19-0CADAC4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AB627-F7B2-4F2E-A7F9-6304580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8D614-F0B4-4AD6-95D6-17BFFF53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053B3-5303-4F30-A968-27C9871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ACB77-5FE5-43A3-AF26-6A950F7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EE13F-EF6F-4927-B6C2-8BD7C33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A156B-3E90-452E-AEAB-118CE39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157D-F895-44B2-B8FB-8BDDBE4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45682-1616-49ED-96CE-CC75FECF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CD08C-6262-4689-B102-300DA4A5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B70DA-F816-4139-8684-1CA9B7A8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B8650-6BB0-4E6F-AE2F-00D7F42D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1BC43-F44A-457B-B7C9-84AAEAE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473EC-274F-4A7B-89C2-F1C1A4AE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E3FE9-BCCA-446F-8221-8A6DAF9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9C159-C9B0-4596-9DE5-B8E7CC2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E64F8-26EC-4578-A086-F90C6D7E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2CC59-58FF-46FB-8A29-A9A8127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842-EBBB-49B4-83C8-8681C4F6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665-BB74-48AE-B9B4-76196B0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DF0BF-0B2C-4C5E-903E-122FB22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D45F4-EA05-4E80-8197-DDD552B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4C715-6196-42DB-95C5-9C81A3B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F829E-6E07-4C84-B5AE-9BDA5B43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07C15-6D31-4229-8F18-7B255871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4780D-7EDF-4939-AD48-2AE48E12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4C6FA-1F2F-44BE-90C3-53B6CFC3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D3A6A-C48D-499D-ACAC-70C0AF7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6D26D-EAFC-45E2-8AAC-7C39DCF8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E5BF9-FF56-43FE-B094-4FB42788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DC79-71AD-47CC-AF3B-6F4B1BE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57CFF-02CB-4F7E-8DC0-592244E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2E685-7C68-4F24-87DC-DF3476D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758ED-40DF-4493-98FD-DFD1DFE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5BE17-25AF-4423-9090-D0F4E0E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E1E76-A133-4E49-8072-BEA1A82B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D5D87-4A16-4BA6-8CD7-1830187B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50BEE-E479-436E-8646-E7C81BA4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D6EA8-BA06-4E02-B8A9-F404B4EB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15420-4BD7-48C9-987C-B5AEAEA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B0673-544F-4CCC-A66D-325F4E64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9F7E-72B9-4EBD-ACD7-22DE887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10D0B-B4EA-4ECB-8E13-66ACC0B8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8B3C9-DF58-47F0-AE9A-571AFD1C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197C9-7898-418F-907F-B71341C2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7600E-E8BE-4209-A8C6-749591B7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F18D6-2E2A-4FDD-BAEC-1DB72D6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1B5D4-5D41-4531-8387-B6C8A19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72BE6-FFD1-4C99-A595-A82271D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CFB59-26E4-4DDD-9225-703C7DEA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0D15E-C8A2-4373-BB7B-904A9857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713F3-DBC7-4E3D-BDAB-C22C512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E731-9D64-4357-AADA-0A7DB399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85720-122A-4882-84DA-04E1FDB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EF831-2F1B-4A47-9C57-D6CC41D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D9D17-F2D8-42A4-B8FA-717DB9BD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9FA15-AA19-4093-9A8B-7A025869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84A10-5650-478F-AD7B-1D11E2CB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FD340-22D6-45C8-99C8-EE7281D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6F525-2E07-4818-8389-0FC86B0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6EDBD-E4B8-42CE-AEB9-8DE2467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D4DE7-D359-4EDD-A3F1-9AA16B1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1C2F2-694D-4CFF-BF42-DDEED401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F2A6-797E-4CF9-AB9B-EBA91065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2BB35-4CBD-42DF-A541-E20D4B51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629CF-B85C-441E-B256-FE66EDF4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4A1A7-B2CC-46D3-9C21-0C32F888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E00D2-F130-4309-A90E-943EEE71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FF907-C6D3-4584-B944-56B09B9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A1B09-0973-4226-925A-8AB4CD9A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1E10B-E7A8-432E-AF45-DF8781FE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E2C64-1F24-40D5-9382-50D858E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CB3B4-96AC-4783-BCB7-591AFF1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E1899-9DC1-4758-A79D-F35F8BA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D32B-15B0-4CEA-B08E-4DFE0C6E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AAF103-F928-4D8C-BA98-22F3A7E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AA12B-78A8-4C07-9B8C-7B5B7458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034F7-8D60-4428-8567-0B4D54D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4AF9E9-1B73-4CF6-B9AD-EF643110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6FC34-7231-41F3-89A3-9339656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944B9-209C-4D57-BE3B-F5E5EA3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B7AAC-1EA1-4953-8EF5-ED43363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408E6-C376-43D5-9473-9C57FDA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FD94E-2160-4BAB-A23D-3B8E4DF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051E5-BD9A-4D92-8982-B0464D4B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1A06-D235-42C0-983D-DB4BCB2A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263CB-95BB-454F-A257-C14A528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1FA82C-A19B-4E57-83C9-266EA9B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47B86B-395E-48DE-8ED4-A4D8830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95F72-EFDD-4B7E-89C5-5252B2D8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5AAD1A-EBB4-49C0-AC7B-05996DA6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9E7F-554F-463E-ACF2-01C4459F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0B4C-8731-4258-8217-4265EE8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F23F-F635-4AF3-AA1A-7395D28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AF2-976B-4D72-BA49-2571C1D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DF50-5ED4-4A97-AB31-EF0FF9C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B957-62EF-4ECA-B7E6-1C25A16C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3E9E-B6C6-4C55-B77D-B19F6D85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7D25-BE4D-472E-8F6E-818262F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961F-0642-4FB9-93FE-17EA166F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180C-501C-4149-BDCD-7322351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7470-868A-426D-B77C-4B4BBF7C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C29F-1403-4EC4-8E35-3DEE898E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90C8-9D02-4FCA-A076-FDE224B8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E219-CB9A-4B12-BFBA-E7C6F61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B78-433F-45A5-A76D-45A77C1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0EC8-7C8E-4CD7-8082-5442D6F1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0E05-8473-43A2-90C8-942FF80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F496-54A0-42F6-8C4F-E3AA1B2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09CA-50DB-43E1-B380-E4F5F87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7E38-19B6-4D50-85A4-6F543EA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788A-F807-4475-9A18-F90A229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9B38-254D-4631-B4B6-9D51284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4DF2-C047-4E13-A6B0-705B990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FE2C-CCED-4822-B675-4BC7F34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8FED3-CA30-4D8D-B34D-40AF52B7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A7C-121B-4012-8A44-3C23573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962E-EDAD-4A96-A16B-DAEB97C1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2B01-6767-447F-AAE5-C5C0D68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EB4F-548F-4C2D-AF48-9FFC69B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47E5-210C-4B07-8AF9-8248F6A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7FA9-83DA-48B5-AF5F-BA17FB5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5FF27-8DE0-4F11-B105-0CB80B0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66D5-D9A7-4FA4-81B3-2FF7D09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484C-D063-46BA-A8B7-79CF6E5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13A7-C124-4676-B3C7-DFCF947B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A287-30E4-4937-A802-69396C96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9E1-F00C-4383-9E0C-8B0231E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69E4-7514-4447-B3E3-AE10171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34868-C59C-4548-9578-A6CD7C8B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D8340-B92C-4AC6-8849-BD60A6B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269C5-9C6D-4036-9352-6D52E7D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8B646-437B-418D-AA52-837E0C2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0BA2-A4DB-4D2E-9B0F-1A4A8E16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3D332-CDCC-4DB2-988C-B172743F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3D55A-D861-4962-8F14-51C82834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75283-DAAD-4682-ADC7-8921007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BA77C-7EF4-4FF4-945E-FD36A58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3B6-2714-4A90-930B-5D9565AC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0E5BF-8159-4A89-A1AC-C874E47C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57038-1193-4EDA-85C0-82664932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E0E26-B2FC-4EB0-B7C5-3E64C89B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132A-8009-40B8-871A-6F21CF56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CC40-9BA2-47AA-8AD4-8890C89E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F1EE-AF2E-44E3-826A-11E38947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4804-835C-4FD0-A1D3-7E7AEFF3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8D66-7AF1-4DF4-A55C-F783685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F1C9-E1C7-4586-8375-0029385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F906-77C0-4740-BADA-7E8E13A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AA7-3C00-41FB-AF1A-1F4474A1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A3D4-0C54-46BB-963A-C509CB1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3793A-1D2D-4BB6-A948-2652B03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681E5-0EE6-4EEB-B482-0E9F239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682A-25FA-45EB-997B-953F6A77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73B7-F1AC-4846-A625-09425E9F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C2D1-C2EF-4A1E-8655-7E0C42D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B284A-8FB7-42BC-939D-1948772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A5D0E-A845-4BB7-B02A-12C91DA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3C97-6802-45A7-937A-862B7E0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FD62-27AA-4EF7-A1D5-DEA6650B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300-5289-477F-8920-42C09B0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02E5-C5FD-4332-8C4A-84FDED0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55129-76E4-4942-B1E9-DA3727F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4263-C041-429D-B6F6-08CBB5F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CEA3-A5BE-44E6-B9A1-EF69FA1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E7D9-50B7-4D59-A4A3-95CE371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134E9-0F0D-43EF-B43A-3D9B9CC3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4A7A7-EA55-4AA4-AAB4-330FEA86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EFF6-7E6D-461A-B304-D428AB09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7CF65-FB97-482A-A443-D7C0052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34AA4-032E-4005-BA59-5E91BC21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1E4-E923-4804-8166-073C9A883B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F937-4D37-43E8-887C-EB0A933C3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8F6-3F56-4C06-84D4-F403C5EC2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07B-A93C-4BC3-9072-CB0A803211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1CF1-A44C-4DC4-A13D-F6A257E4A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F0F-6A44-4390-8320-23D8F3971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58B-356C-4B50-B178-6957A4F57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CC1-DD30-4D49-B897-73999994B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46E-4925-442E-AC03-9B2729A1F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CBA0-1DC4-43D2-8B1B-8FE780504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788-9BB8-4216-89E8-DC257EC64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267-0099-4CC6-B1BF-DB441F901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523-A774-43D2-BA9F-766F26443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2840-6EAC-434B-8CBC-CA6EFD4C6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C15-E6BB-42E2-8C5B-4BC03E6EB3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391-A025-47BD-90F5-E979CB2F7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1ED9-A2D9-40F3-BA64-5339675B5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BE58-6591-49B0-B401-239D3B5B16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9180-AC63-4B9A-B34C-EC8AB4BB8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1C9-C3B2-487E-8AB7-AF1CD0219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233-C893-45E0-911A-911A21D0A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E99-3624-4085-A2CF-EB27A34043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466-9B52-402F-8043-07848EE78C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1D20-7C72-4DC6-8CBF-FA83CD41C4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36E-C69E-4728-A6E5-58FBE82A6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A20-2D27-456D-8F3C-544D0A035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CA3-9E61-4FFE-817E-1F0BD1C825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A11-5959-4464-BFED-41D6592E2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0C7-C7D1-4344-89A8-E7CE8177D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4C4E-C3A8-46BF-8FEB-68D6B18A5B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49A-27DF-4D72-A096-0216880E0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F41D-606E-4778-A02E-59DF77CE11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F7E-F98D-482C-B8FB-CEA3A74D6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0C70-41DF-4CC8-98E8-568D0C27E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C6E5-903A-4AD7-A7BB-9E8C3C9D4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BF29-81E1-428F-B3D6-5C58BF645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60D-24F2-4DE2-ACDD-0577E316F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884-05ED-47EE-A1FA-542B26037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DE7F-7A38-4966-807E-2997DBD1F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3DE-5624-485A-86F2-371115774E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502"/>
          <p:cNvPicPr/>
          <p:nvPr/>
        </p:nvPicPr>
        <p:blipFill>
          <a:blip r:embed="rId1"/>
          <a:stretch/>
        </p:blipFill>
        <p:spPr>
          <a:xfrm>
            <a:off x="272880" y="2081160"/>
            <a:ext cx="84250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37960" y="765000"/>
            <a:ext cx="8668080" cy="59914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826920" y="280980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971640" y="3154320"/>
            <a:ext cx="2808360" cy="318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1258920" y="3471840"/>
            <a:ext cx="6985080" cy="318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395280" y="3789360"/>
            <a:ext cx="7416720" cy="3189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395280" y="508464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250920" y="5445000"/>
            <a:ext cx="6985080" cy="319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9"/>
          <a:stretch/>
        </p:blipFill>
        <p:spPr>
          <a:xfrm>
            <a:off x="971640" y="5734080"/>
            <a:ext cx="5040360" cy="3189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0"/>
          <a:stretch/>
        </p:blipFill>
        <p:spPr>
          <a:xfrm>
            <a:off x="1476360" y="6064200"/>
            <a:ext cx="54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1"/>
          <a:stretch/>
        </p:blipFill>
        <p:spPr>
          <a:xfrm>
            <a:off x="539640" y="6396120"/>
            <a:ext cx="6337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228600" y="1886040"/>
            <a:ext cx="8686800" cy="30859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2"/>
          <a:stretch/>
        </p:blipFill>
        <p:spPr>
          <a:xfrm>
            <a:off x="611280" y="2895480"/>
            <a:ext cx="7489800" cy="3193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1028880" y="3213000"/>
            <a:ext cx="7864200" cy="3193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1279440" y="3471840"/>
            <a:ext cx="5524560" cy="3189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1042920" y="3860640"/>
            <a:ext cx="7864560" cy="3193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971640" y="4149720"/>
            <a:ext cx="7864560" cy="3189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835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7867440" cy="39146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2"/>
          <a:stretch/>
        </p:blipFill>
        <p:spPr>
          <a:xfrm>
            <a:off x="971640" y="3443400"/>
            <a:ext cx="42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3"/>
          <a:stretch/>
        </p:blipFill>
        <p:spPr>
          <a:xfrm>
            <a:off x="1042920" y="375912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5"/>
          <a:stretch/>
        </p:blipFill>
        <p:spPr>
          <a:xfrm>
            <a:off x="1042920" y="4437000"/>
            <a:ext cx="7274160" cy="31932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6"/>
          <a:stretch/>
        </p:blipFill>
        <p:spPr>
          <a:xfrm>
            <a:off x="1116000" y="4724280"/>
            <a:ext cx="7273800" cy="3193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7"/>
          <a:stretch/>
        </p:blipFill>
        <p:spPr>
          <a:xfrm>
            <a:off x="971640" y="5041800"/>
            <a:ext cx="72738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7520" y="1247760"/>
            <a:ext cx="9048960" cy="4362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6775560" y="1628640"/>
            <a:ext cx="934920" cy="319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796000" y="242100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4572000" y="2852640"/>
            <a:ext cx="93672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8207280" y="2852640"/>
            <a:ext cx="541440" cy="319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1692360" y="407664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6012000" y="4508640"/>
            <a:ext cx="252072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1476360" y="4883040"/>
            <a:ext cx="252108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5796000" y="4927680"/>
            <a:ext cx="33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84360" y="5300640"/>
            <a:ext cx="1800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85760" y="1576440"/>
            <a:ext cx="8772480" cy="37051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282600" y="5133960"/>
            <a:ext cx="5443560" cy="609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127920" y="15573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2556000" y="1989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4211640" y="1989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3067200" y="302904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3851280" y="354492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2828880" y="3933720"/>
            <a:ext cx="44784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5580000" y="393372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5551560" y="4365720"/>
            <a:ext cx="447480" cy="3189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1332000" y="4782960"/>
            <a:ext cx="360360" cy="319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5724360" y="4767120"/>
            <a:ext cx="720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3480" y="2181240"/>
            <a:ext cx="9077040" cy="24955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5938920" y="1805040"/>
            <a:ext cx="3057480" cy="590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8317080" y="256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8317080" y="299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8317080" y="3429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8317080" y="3860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8373960" y="4292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371520" y="1452600"/>
            <a:ext cx="8400960" cy="39528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564000" y="184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766764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255600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5940360" y="472428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504720" y="1238400"/>
            <a:ext cx="8134560" cy="43812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1403280" y="266544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1403280" y="302580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3924360" y="3068640"/>
            <a:ext cx="1728720" cy="318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6588000" y="263700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7"/>
          <a:stretch/>
        </p:blipFill>
        <p:spPr>
          <a:xfrm>
            <a:off x="6588000" y="2997360"/>
            <a:ext cx="17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8"/>
          <a:stretch/>
        </p:blipFill>
        <p:spPr>
          <a:xfrm>
            <a:off x="1476360" y="479736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9"/>
          <a:stretch/>
        </p:blipFill>
        <p:spPr>
          <a:xfrm>
            <a:off x="1476360" y="5157720"/>
            <a:ext cx="1728720" cy="3193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0"/>
          <a:stretch/>
        </p:blipFill>
        <p:spPr>
          <a:xfrm>
            <a:off x="3924360" y="479736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1"/>
          <a:stretch/>
        </p:blipFill>
        <p:spPr>
          <a:xfrm>
            <a:off x="3924360" y="5157720"/>
            <a:ext cx="1871640" cy="3193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2"/>
          <a:stretch/>
        </p:blipFill>
        <p:spPr>
          <a:xfrm>
            <a:off x="6516720" y="4797360"/>
            <a:ext cx="2087640" cy="3193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3"/>
          <a:stretch/>
        </p:blipFill>
        <p:spPr>
          <a:xfrm>
            <a:off x="6516720" y="5157720"/>
            <a:ext cx="2087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476280" y="1338120"/>
            <a:ext cx="8191440" cy="4181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944720" cy="3189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1944720" cy="3193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826920" y="2852640"/>
            <a:ext cx="1944720" cy="319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3635280" y="208908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3635280" y="244800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7"/>
          <a:stretch/>
        </p:blipFill>
        <p:spPr>
          <a:xfrm>
            <a:off x="3635280" y="280836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8"/>
          <a:stretch/>
        </p:blipFill>
        <p:spPr>
          <a:xfrm>
            <a:off x="6588000" y="213372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9"/>
          <a:stretch/>
        </p:blipFill>
        <p:spPr>
          <a:xfrm>
            <a:off x="6588000" y="2492280"/>
            <a:ext cx="2089440" cy="3193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0"/>
          <a:stretch/>
        </p:blipFill>
        <p:spPr>
          <a:xfrm>
            <a:off x="900000" y="4294080"/>
            <a:ext cx="2089440" cy="3193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11"/>
          <a:stretch/>
        </p:blipFill>
        <p:spPr>
          <a:xfrm>
            <a:off x="900000" y="4653000"/>
            <a:ext cx="2089440" cy="318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2"/>
          <a:stretch/>
        </p:blipFill>
        <p:spPr>
          <a:xfrm>
            <a:off x="3635280" y="4292640"/>
            <a:ext cx="2232000" cy="3189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13"/>
          <a:stretch/>
        </p:blipFill>
        <p:spPr>
          <a:xfrm>
            <a:off x="3635280" y="465120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14"/>
          <a:stretch/>
        </p:blipFill>
        <p:spPr>
          <a:xfrm>
            <a:off x="3635280" y="5011560"/>
            <a:ext cx="2089080" cy="3193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15"/>
          <a:stretch/>
        </p:blipFill>
        <p:spPr>
          <a:xfrm>
            <a:off x="6659640" y="4294080"/>
            <a:ext cx="2232000" cy="3193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16"/>
          <a:stretch/>
        </p:blipFill>
        <p:spPr>
          <a:xfrm>
            <a:off x="6659640" y="4653000"/>
            <a:ext cx="20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17"/>
          <a:stretch/>
        </p:blipFill>
        <p:spPr>
          <a:xfrm>
            <a:off x="6659640" y="5013360"/>
            <a:ext cx="208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37960" y="909720"/>
            <a:ext cx="8563320" cy="5772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5796000" y="27813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5796000" y="31417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5867280" y="342900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942840" y="566100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8"/>
          <a:stretch/>
        </p:blipFill>
        <p:spPr>
          <a:xfrm>
            <a:off x="942840" y="6021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9"/>
          <a:stretch/>
        </p:blipFill>
        <p:spPr>
          <a:xfrm>
            <a:off x="1014480" y="6308640"/>
            <a:ext cx="2158920" cy="319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10"/>
          <a:stretch/>
        </p:blipFill>
        <p:spPr>
          <a:xfrm>
            <a:off x="5796000" y="56325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11"/>
          <a:stretch/>
        </p:blipFill>
        <p:spPr>
          <a:xfrm>
            <a:off x="5796000" y="59929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12"/>
          <a:stretch/>
        </p:blipFill>
        <p:spPr>
          <a:xfrm>
            <a:off x="5867280" y="6280200"/>
            <a:ext cx="2159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5616360" cy="3193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144144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11280" y="177336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468360" y="5129280"/>
            <a:ext cx="5616360" cy="3189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971640" y="5445000"/>
            <a:ext cx="691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971640" y="5805360"/>
            <a:ext cx="691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1042920" y="6137280"/>
            <a:ext cx="6913800" cy="318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684360" y="6481800"/>
            <a:ext cx="7416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36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